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2593-4A3F-45D0-8FB5-A91A830FA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A575-B44D-434E-AB13-3FEE4382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6411-753B-44CD-BEDD-CA35C32C8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0876-693F-40B9-A129-077E87483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A835-62E7-4D89-9E8B-A184D5C8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88C0-208F-4E39-9942-7E49A407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26CB-9FFE-45DE-BB07-FAE7A517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8D0E-222E-4983-9533-F4CAF485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34B1-357D-46FC-AC40-41F1725F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2AE3-61FE-4AE6-BF7E-F0117CC1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6E3B-0262-4E10-8028-7F2F435A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55D8-006A-4399-9582-299EC227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B218-3165-4D97-8BCF-50B60EEC3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A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PREPOSI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PREPOSI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labras in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cionan palabras o grupos de palabras entre s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emplo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 casa</a:t>
            </a:r>
            <a:r>
              <a:rPr b="0" i="1" lang="en-US" sz="3200" spc="-1" strike="noStrike">
                <a:solidFill>
                  <a:srgbClr val="009999"/>
                </a:solidFill>
                <a:latin typeface="Arial"/>
              </a:rPr>
              <a:t> d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e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PREPOSI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, ANTE, 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, CON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, DES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, EN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CIA , HA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, P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ÚN, SIN, SO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NTE , DUR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UCIONES PREPOSI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AJO DE ( BAJ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TRO DE (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IMA DE (SOB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RAVÉS DE (POR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MEDIO DE (ENT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21:55:51Z</dcterms:created>
  <dc:creator>AUDIOLEASK</dc:creator>
  <dc:description/>
  <dc:language>en-US</dc:language>
  <cp:lastModifiedBy>AUDIOLEASK</cp:lastModifiedBy>
  <dcterms:modified xsi:type="dcterms:W3CDTF">2014-02-20T22:05:41Z</dcterms:modified>
  <cp:revision>1</cp:revision>
  <dc:subject/>
  <dc:title>TEMA 7</dc:title>
</cp:coreProperties>
</file>